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CD9AA-44A1-4723-A7E8-86EA26D85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8C11B-C829-4D1B-A28F-627300CEC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4F17F-B4B4-4F5A-A01A-7D8083A5A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72060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37452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06668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72060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37452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D86D7-8B17-4701-9AC0-6FFEDCAB5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AB9AC-6D2A-471A-A80D-104D649FE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EAF07-8E49-4097-A490-26B1E68DC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68333-02EF-4AE6-BD03-EF4C3B62B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F4FE7-D3A5-4EE2-AD6F-1A3B4EA80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13C64-0C97-4E6C-B3E5-6D55C8E97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1143000" y="1418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A9A48-87A6-4C64-92B2-0A706532D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35BD2-2B7A-416A-BC6B-8259D6E18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68D2C-2EC1-4848-91DF-6FB62F336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251BF-77A1-4A40-9946-D2A4264A8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58BED-31AD-40E4-98EC-9F028DFA5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51448-FA4B-43CA-AEBA-5C3254252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A3E9B-009B-4096-AD42-56AB6B986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72060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37452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106668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72060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37452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7092C-23CF-4114-92D6-EA6DC482C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7134D-3B36-4C26-9A0A-3AD592F41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65EE4-4854-4BA8-9B26-807B6D8CC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BA44A-4C29-4117-814D-48C9EAA0C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43000" y="1418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1E9C2-190F-4A67-A3C8-EFCA8663C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28D9C-CD7A-46F1-A44E-A13E6E4A7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6D01B-5755-4FE1-9F15-DEE443304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941F3-5705-479E-9940-21E85D141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51920" y="313920"/>
            <a:ext cx="848160" cy="6543720"/>
            <a:chOff x="151920" y="313920"/>
            <a:chExt cx="848160" cy="6543720"/>
          </a:xfrm>
        </p:grpSpPr>
        <p:sp>
          <p:nvSpPr>
            <p:cNvPr id="1" name=""/>
            <p:cNvSpPr/>
            <p:nvPr/>
          </p:nvSpPr>
          <p:spPr>
            <a:xfrm flipH="1" rot="5400000">
              <a:off x="129240" y="31658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 rot="5400000">
              <a:off x="129240" y="410868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 rot="5400000">
              <a:off x="126720" y="505008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 rot="5400000">
              <a:off x="131400" y="5991480"/>
              <a:ext cx="885960" cy="846360"/>
            </a:xfrm>
            <a:prstGeom prst="parallelogram">
              <a:avLst>
                <a:gd name="adj" fmla="val 554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 rot="5400000">
              <a:off x="129240" y="33840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5400000">
              <a:off x="126720" y="1275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 flipH="1" rot="5400000">
              <a:off x="126720" y="222120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 flipH="1">
            <a:off x="546840" y="1703520"/>
            <a:ext cx="8596440" cy="25380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3800"/>
              <a:gd name="textAreaBottom" fmla="*/ 254160 h 253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460440" y="170640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463680" y="1913040"/>
            <a:ext cx="190440" cy="46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9209160" y="16765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457200" y="173988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" name="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15" name="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155520" y="0"/>
              <a:ext cx="84456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150840" y="6445080"/>
              <a:ext cx="72540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541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924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21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C15EC-1AEC-4750-920A-9C6BEEB9F65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5" name=""/>
            <p:cNvSpPr/>
            <p:nvPr/>
          </p:nvSpPr>
          <p:spPr>
            <a:xfrm>
              <a:off x="0" y="0"/>
              <a:ext cx="9144000" cy="849240"/>
            </a:xfrm>
            <a:prstGeom prst="rect">
              <a:avLst/>
            </a:prstGeom>
            <a:gradFill rotWithShape="0">
              <a:gsLst>
                <a:gs pos="0">
                  <a:srgbClr val="1c6d9a"/>
                </a:gs>
                <a:gs pos="100000">
                  <a:srgbClr val="2181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0" y="4995720"/>
              <a:ext cx="9144000" cy="1862280"/>
            </a:xfrm>
            <a:prstGeom prst="rect">
              <a:avLst/>
            </a:prstGeom>
            <a:gradFill rotWithShape="0">
              <a:gsLst>
                <a:gs pos="0">
                  <a:srgbClr val="2181b7"/>
                </a:gs>
                <a:gs pos="100000">
                  <a:srgbClr val="1c6d9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7" name=""/>
          <p:cNvGrpSpPr/>
          <p:nvPr/>
        </p:nvGrpSpPr>
        <p:grpSpPr>
          <a:xfrm>
            <a:off x="151920" y="313920"/>
            <a:ext cx="848160" cy="6543720"/>
            <a:chOff x="151920" y="313920"/>
            <a:chExt cx="848160" cy="6543720"/>
          </a:xfrm>
        </p:grpSpPr>
        <p:sp>
          <p:nvSpPr>
            <p:cNvPr id="68" name=""/>
            <p:cNvSpPr/>
            <p:nvPr/>
          </p:nvSpPr>
          <p:spPr>
            <a:xfrm flipH="1" rot="5400000">
              <a:off x="129240" y="31658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H="1" rot="5400000">
              <a:off x="129240" y="410868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H="1" rot="5400000">
              <a:off x="126720" y="505008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 rot="5400000">
              <a:off x="131400" y="5991480"/>
              <a:ext cx="885960" cy="846360"/>
            </a:xfrm>
            <a:prstGeom prst="parallelogram">
              <a:avLst>
                <a:gd name="adj" fmla="val 554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H="1" rot="5400000">
              <a:off x="129240" y="33840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 rot="5400000">
              <a:off x="126720" y="1275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 rot="5400000">
              <a:off x="126720" y="222120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5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546840" y="2717640"/>
            <a:ext cx="8596440" cy="25416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4160"/>
              <a:gd name="textAreaBottom" fmla="*/ 254520 h 254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33440" y="269712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63680" y="2700360"/>
            <a:ext cx="161640" cy="41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9236160" y="26971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84200" y="276084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82" name="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55520" y="0"/>
              <a:ext cx="84456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50840" y="6445080"/>
              <a:ext cx="72540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54160" y="120816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4"/>
          </p:nvPr>
        </p:nvSpPr>
        <p:spPr>
          <a:xfrm>
            <a:off x="1119240" y="6318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ftr" idx="5"/>
          </p:nvPr>
        </p:nvSpPr>
        <p:spPr>
          <a:xfrm>
            <a:off x="3557520" y="6318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sldNum" idx="6"/>
          </p:nvPr>
        </p:nvSpPr>
        <p:spPr>
          <a:xfrm>
            <a:off x="6986520" y="6318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67BCD-B943-4B55-B20C-072402FD2E0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Sound Waves and Pressure</a:t>
            </a:r>
            <a:br>
              <a:rPr sz="4400"/>
            </a:b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Investigation 3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066680" y="1981080"/>
            <a:ext cx="7848720" cy="45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fferent types of matter possess different propert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t can affect how they interact with sound wav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ne property that differs = how atoms/molecules of matter are attracted toward each o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990720" y="2057400"/>
            <a:ext cx="8153280" cy="45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ttraction between metal = typically greater than attraction between gasses or liquid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peed of sound is different depending on how particles of matter interac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reater attraction = greater speed of sound in matt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990720" y="2057400"/>
            <a:ext cx="8001000" cy="39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Little attraction = lower speed of soun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peed of sound is greater in solids than in liquids and greater in liquids than gass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tanding waves = cause vibrations which result in pressure waves that travel within matt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7T13:06:44Z</dcterms:created>
  <dc:creator>jpycz</dc:creator>
  <dc:description/>
  <dc:language>en-US</dc:language>
  <cp:lastModifiedBy>jpycz</cp:lastModifiedBy>
  <dcterms:modified xsi:type="dcterms:W3CDTF">2012-01-30T18:12:33Z</dcterms:modified>
  <cp:revision>2</cp:revision>
  <dc:subject/>
  <dc:title>Sound Waves and Pressure Investigation 3</dc:title>
</cp:coreProperties>
</file>